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9B9C-2BC4-43BD-8C4C-761204FF1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F091-DA2C-4F34-9D70-31BD5BA7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50E2-0C1D-4B73-A0B8-AC8F001B9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CEC5-DF2C-41BB-A7CB-1427A4891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2013-FA49-414F-BB2F-92442501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A686-9D36-4215-BA3F-9037900B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BCB5-A08E-4F4D-9D9C-0D37E625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842A-ED22-416D-BB93-77ECC56A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539E-062C-41E2-A73F-86910F40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2900-7626-462C-9C57-6A8AE28A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3E79-28AB-493E-9CDE-CED02381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3D5E-2D27-4A3B-99C4-742A0D67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D393-DD67-42C5-956C-E8169E47C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 rot="21033000">
            <a:off x="7162560" y="5638680"/>
            <a:ext cx="2286000" cy="1990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 rot="19485600">
            <a:off x="4876560" y="5410080"/>
            <a:ext cx="2286000" cy="1990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-1500120" y="6095880"/>
            <a:ext cx="3000240" cy="2257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 rot="1587000">
            <a:off x="3124080" y="5862240"/>
            <a:ext cx="2286000" cy="1990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 rot="7869000">
            <a:off x="2823840" y="5024520"/>
            <a:ext cx="2286000" cy="1990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 rot="1396800">
            <a:off x="1447560" y="4600080"/>
            <a:ext cx="3000240" cy="2257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-422280" y="4343400"/>
            <a:ext cx="843120" cy="797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8458200" y="4122720"/>
            <a:ext cx="1028880" cy="1149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-1905120" y="304920"/>
            <a:ext cx="2133720" cy="1293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7010280" y="32767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3 -0.00069 L -0.25833 -0.00069 E">
                                      <p:cBhvr>
                                        <p:cTn id="6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000"/>
                            </p:stCondLst>
                            <p:childTnLst>
                              <p:par>
                                <p:cTn id="8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4 0.19977 L -0.00834 -0.13318 E">
                                      <p:cBhvr>
                                        <p:cTn id="23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33526E-006 C 0.02101 -0.06635 0.04219 -0.13248 0.08941 -0.15976 C 0.13646 -0.18659 0.2467 -0.16161 0.2816 -0.163 C 0.31667 -0.16462 0.29549 -0.16739 0.29913 -0.16994 E">
                                      <p:cBhvr>
                                        <p:cTn id="2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9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9000"/>
                            </p:stCondLst>
                            <p:childTnLst>
                              <p:par>
                                <p:cTn id="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9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40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46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16185E-006 L 0.49167 0.00855 E">
                                      <p:cBhvr>
                                        <p:cTn id="49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022E-016 -1.84971E-006 L -0.48125 0.00393 E">
                                      <p:cBhvr>
                                        <p:cTn id="51" dur="5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6500"/>
                            </p:stCondLst>
                            <p:childTnLst>
                              <p:par>
                                <p:cTn id="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6500"/>
                            </p:stCondLst>
                            <p:childTnLst>
                              <p:par>
                                <p:cTn id="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5641 C 0.05295 -0.02636 0.10556 -0.10914 0.15886 -0.09411 C 0.21198 -0.07908 0.24202 0.11768 0.31927 0.14566 C 0.3967 0.17456 0.51841 -0.00093 0.62223 0.0756 C 0.72587 0.15214 0.83351 0.37826 0.94167 0.60485 E">
                                      <p:cBhvr>
                                        <p:cTn id="61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9500"/>
                            </p:stCondLst>
                            <p:childTnLst>
                              <p:par>
                                <p:cTn id="6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0"/>
                            </p:stCondLst>
                            <p:childTnLst>
                              <p:par>
                                <p:cTn id="7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8:21:51Z</dcterms:created>
  <dc:creator>JEFFCO</dc:creator>
  <dc:description/>
  <dc:language>en-US</dc:language>
  <cp:lastModifiedBy>JEFFCO</cp:lastModifiedBy>
  <dcterms:modified xsi:type="dcterms:W3CDTF">2009-10-23T18:42:44Z</dcterms:modified>
  <cp:revision>8</cp:revision>
  <dc:subject/>
  <dc:title>Slide 1</dc:title>
</cp:coreProperties>
</file>